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B52-3C57-4686-8287-28DF1F4D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EEF-FA34-427A-9268-1990030A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54C-25C3-47E2-984C-EB4EFF97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AC3-169C-4109-8809-6513AAC4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ADE-562F-42FA-B8BD-D2DA0900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DB1-76A3-498F-9E85-42229CCE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208-5B84-4F5E-916F-E336D081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118-117A-4725-BCA2-A81313EB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546-5F31-4845-B27F-70B7150B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3FA-7EBB-4FFB-BBF9-C2B40C67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BE9-AECC-4301-ACDD-7DC5F81B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BFF-8B73-48C4-974B-DD85F294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AA07-202D-4967-A320-C39A2FCCF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cache2.asset-cache.net/xc/sb10066865m-003.jpg%3Fv%3D1%26c%3DIWSAsset%26k%3D2%26d%3DD348D8117266F6C8138EDD2A66A15F9D5A20D61F1334B648E1E6354A230F91CECBA791B4E6F43A1CEC7C5022FB410D56&amp;imgrefurl=http://www.gettyimages.com/detail/sb10066865m-003/Allsport-Concepts&amp;usg=__UvjlMVhShKHQdwWOmvskL7Vrg2U=&amp;h=425&amp;w=401&amp;sz=25&amp;hl=en&amp;start=9&amp;zoom=1&amp;itbs=1&amp;tbnid=VwiZWKC1u0fUoM:&amp;tbnh=126&amp;tbnw=119&amp;prev=/images%3Fq%3Dpeople%2Bshooting%2Bbasketballs%26hl%3Den%26safe%3Dactive%26rls%3Dcom.microsoft:en-us%26tbs%3Disch:1&amp;ei=5lZlTez_E4bGlQfo3qWKB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Game averag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By: tarra eid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asketballs Pillowcase"/>
          <p:cNvPicPr/>
          <p:nvPr/>
        </p:nvPicPr>
        <p:blipFill>
          <a:blip r:embed="rId1"/>
          <a:stretch/>
        </p:blipFill>
        <p:spPr>
          <a:xfrm>
            <a:off x="304920" y="609480"/>
            <a:ext cx="1293840" cy="1524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4876920"/>
            <a:ext cx="1565280" cy="165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09880" y="1600200"/>
            <a:ext cx="22100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howcard Gothic"/>
              </a:rPr>
              <a:t>probl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howcard Gothic"/>
              </a:rPr>
              <a:t>hypo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at boys will have an higher average then girls, because boys seem too shoot better under pres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howcard Gothic"/>
              </a:rPr>
              <a:t>Materi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gir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\penc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howcard Gothic"/>
              </a:rPr>
              <a:t>proced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get 4 girls and have them shoot 8 baskets and how many they make I will add up all of them and then find the mean. I will do the same with the boys too. Then I will take the mean and put them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howcard Gothic"/>
              </a:rPr>
              <a:t>resul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s can shoot under presser better then girls. I think why is because the don’t think about it when they are shoo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76720" y="3733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howcard Gothic"/>
              </a:rPr>
              <a:t>concl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end the boys tested better then the girls. The reason why is because some boys now how to handle presser and some girls can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20:52:46Z</dcterms:created>
  <dc:creator>USD376</dc:creator>
  <dc:description/>
  <dc:language>en-US</dc:language>
  <cp:lastModifiedBy>USD376</cp:lastModifiedBy>
  <dcterms:modified xsi:type="dcterms:W3CDTF">2011-03-11T14:34:58Z</dcterms:modified>
  <cp:revision>9</cp:revision>
  <dc:subject/>
  <dc:title>What is the ave. of people making shots in 10 shots?</dc:title>
</cp:coreProperties>
</file>